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C0C-537F-4260-9260-78499C9B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0A0-2823-4934-86DA-2054A289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AD7-DF45-4948-97A4-546AF1D9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16E-FCD2-47DE-9BE0-E4421751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2E96-42EC-4C3C-91CD-A54FCE5E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3927-8734-4355-B003-B0FFC1D2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948E-5358-4C5F-8429-CCCD4712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710-B9D7-4FB4-82B5-254BE10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CEDE-735D-4F93-BC11-9ED57AB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84B-B7A4-4C9F-8145-6F89F54A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94B-639F-43CD-93B4-1358574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D7B-A28D-4F62-BDD2-E77301B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DBCF-F352-4319-9445-66E0222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B91-90AB-42E1-AB79-2B42D39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4E4C-C666-46B7-8E5B-8843E86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9A60-3E5C-4524-BA56-BA36BEB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6D9-6836-42DC-BC05-77D4569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53AF9-54D3-4F37-84CB-1DD84764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2FF50-3474-4364-8876-0276304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6299D-FD1E-4A2E-88FF-F7E9D9EC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B86E-53CB-4946-9E15-8FE22E7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94342-2DAD-415F-89EE-4CE06E47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27A-AA06-4E38-A25A-70100CD2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1115B-4170-44F5-94C2-30F6AF7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3E442-854E-4B94-97CE-829DC05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85673-6180-4335-8F36-86B4D06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9C458-422A-4EE8-853D-F84B731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2054D-DF99-409F-9C84-BDCFB33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F99F4-9157-418D-9E9B-1BF5DF34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E259A-55EA-426B-BD29-CCB3DA3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5298-510B-455F-B880-9C6DCEF2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5026-0E0C-4258-A7AD-F03317E3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604E-AA09-4B05-8463-14EA406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1AF-66EA-4B0D-99ED-77C23119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4BD7-4F01-4B32-A9D2-4D0048CC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9530-A561-49A8-AC0A-2155DA4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B51D-B51E-4759-A8A4-A99592D4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A4B4-5936-49A3-A602-8D51F0F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2A20-F683-4302-A9F0-9883E897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2D72-57AD-4C37-AB0C-037BCE2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7EB7-1CD8-4ABA-B05E-C897D21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E0CF-1ACE-4763-9B6E-7AF7C320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16AC-FE43-4A27-B0F0-051ED0D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08D-1F8B-4062-A663-FED91DB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67E-E394-4FFF-8B5E-1D6C28E9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A5A-A903-4198-AE1F-6BA07D5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FB0-668E-45D9-8B3D-7A9CB290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2B1-BB9B-4547-AC12-8ED04FC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EE52-C1E4-4F2C-B2FC-01737DEE5D0C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33A0-D26F-4778-AB2A-602928606827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DCA-DBFC-43A3-A81A-B3C2C503E69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9FB5-6727-4807-9DEA-4EEC5D194205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Mnożenie pisemne przez liczbę jednocyfrową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3059280" y="4797360"/>
            <a:ext cx="34956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zapisujemy oba czynniki w słupku, a iloczyn pod kreską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2 = 4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3 = 6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ynik mnożenia </a:t>
            </a:r>
            <a:r>
              <a:rPr b="1" lang="pl-PL" sz="2000" spc="-1" strike="noStrike">
                <a:solidFill>
                  <a:srgbClr val="000000"/>
                </a:solidFill>
                <a:latin typeface="Georgia"/>
              </a:rPr>
              <a:t>32 · 2 = 6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27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2" name="Grupa 22"/>
          <p:cNvGrpSpPr/>
          <p:nvPr/>
        </p:nvGrpSpPr>
        <p:grpSpPr>
          <a:xfrm>
            <a:off x="6872400" y="4805280"/>
            <a:ext cx="1081080" cy="800640"/>
            <a:chOff x="6872400" y="4805280"/>
            <a:chExt cx="1081080" cy="800640"/>
          </a:xfrm>
        </p:grpSpPr>
        <p:sp>
          <p:nvSpPr>
            <p:cNvPr id="233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pole tekstowe 18"/>
            <p:cNvSpPr/>
            <p:nvPr/>
          </p:nvSpPr>
          <p:spPr>
            <a:xfrm>
              <a:off x="7355880" y="5011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Łącznik prostoliniowy 19"/>
            <p:cNvSpPr/>
            <p:nvPr/>
          </p:nvSpPr>
          <p:spPr>
            <a:xfrm>
              <a:off x="6872400" y="53096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pole tekstowe 20"/>
            <p:cNvSpPr/>
            <p:nvPr/>
          </p:nvSpPr>
          <p:spPr>
            <a:xfrm>
              <a:off x="6952320" y="4956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pole tekstowe 21"/>
            <p:cNvSpPr/>
            <p:nvPr/>
          </p:nvSpPr>
          <p:spPr>
            <a:xfrm>
              <a:off x="7349040" y="5237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8" name="pole tekstowe 23"/>
          <p:cNvSpPr/>
          <p:nvPr/>
        </p:nvSpPr>
        <p:spPr>
          <a:xfrm>
            <a:off x="712692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Elipsa 3"/>
          <p:cNvSpPr/>
          <p:nvPr/>
        </p:nvSpPr>
        <p:spPr>
          <a:xfrm>
            <a:off x="7408800" y="3573360"/>
            <a:ext cx="24948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Elipsa 4"/>
          <p:cNvSpPr/>
          <p:nvPr/>
        </p:nvSpPr>
        <p:spPr>
          <a:xfrm rot="19501800">
            <a:off x="7288200" y="4851000"/>
            <a:ext cx="222120" cy="5032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5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5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6 · 2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2 · 4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 · 3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75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5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75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75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46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2 = 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a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jednośc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jedności w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mnożymy 6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rzez dziesiątki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4 = 2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dodajemy dodatkową 1 dziesiątkę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które powstały z jedności;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 + 1 = 2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nieważ w rzędzie setek nie mamy cyfr,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52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54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55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9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23"/>
          <p:cNvSpPr/>
          <p:nvPr/>
        </p:nvSpPr>
        <p:spPr>
          <a:xfrm>
            <a:off x="694584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ole tekstowe 26"/>
          <p:cNvSpPr/>
          <p:nvPr/>
        </p:nvSpPr>
        <p:spPr>
          <a:xfrm>
            <a:off x="7152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2" name="Grupa 3"/>
          <p:cNvGrpSpPr/>
          <p:nvPr/>
        </p:nvGrpSpPr>
        <p:grpSpPr>
          <a:xfrm>
            <a:off x="6872400" y="4581360"/>
            <a:ext cx="1081080" cy="1024920"/>
            <a:chOff x="6872400" y="4581360"/>
            <a:chExt cx="1081080" cy="1024920"/>
          </a:xfrm>
        </p:grpSpPr>
        <p:grpSp>
          <p:nvGrpSpPr>
            <p:cNvPr id="263" name="Grupa 22"/>
            <p:cNvGrpSpPr/>
            <p:nvPr/>
          </p:nvGrpSpPr>
          <p:grpSpPr>
            <a:xfrm>
              <a:off x="6872400" y="4806000"/>
              <a:ext cx="1081080" cy="800280"/>
              <a:chOff x="6872400" y="4806000"/>
              <a:chExt cx="1081080" cy="800280"/>
            </a:xfrm>
          </p:grpSpPr>
          <p:sp>
            <p:nvSpPr>
              <p:cNvPr id="264" name="pole tekstowe 17"/>
              <p:cNvSpPr/>
              <p:nvPr/>
            </p:nvSpPr>
            <p:spPr>
              <a:xfrm>
                <a:off x="7158600" y="480600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4 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pole tekstowe 18"/>
              <p:cNvSpPr/>
              <p:nvPr/>
            </p:nvSpPr>
            <p:spPr>
              <a:xfrm>
                <a:off x="7355880" y="501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6" name="Łącznik prostoliniowy 19"/>
              <p:cNvSpPr/>
              <p:nvPr/>
            </p:nvSpPr>
            <p:spPr>
              <a:xfrm>
                <a:off x="6872400" y="5310000"/>
                <a:ext cx="10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pole tekstowe 20"/>
              <p:cNvSpPr/>
              <p:nvPr/>
            </p:nvSpPr>
            <p:spPr>
              <a:xfrm>
                <a:off x="6952320" y="495720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8" name="pole tekstowe 21"/>
              <p:cNvSpPr/>
              <p:nvPr/>
            </p:nvSpPr>
            <p:spPr>
              <a:xfrm>
                <a:off x="7349040" y="5238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9" name="pole tekstowe 27"/>
            <p:cNvSpPr/>
            <p:nvPr/>
          </p:nvSpPr>
          <p:spPr>
            <a:xfrm>
              <a:off x="7161480" y="4581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0" name="pole tekstowe 28"/>
          <p:cNvSpPr/>
          <p:nvPr/>
        </p:nvSpPr>
        <p:spPr>
          <a:xfrm>
            <a:off x="6926760" y="459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9"/>
          <p:cNvSpPr/>
          <p:nvPr/>
        </p:nvSpPr>
        <p:spPr>
          <a:xfrm>
            <a:off x="714276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6 · 6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25 · 7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3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77 · 3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5" descr=""/>
          <p:cNvPicPr/>
          <p:nvPr/>
        </p:nvPicPr>
        <p:blipFill>
          <a:blip r:embed="rId1"/>
          <a:srcRect l="13996" t="22486" r="2451" b="3104"/>
          <a:stretch/>
        </p:blipFill>
        <p:spPr>
          <a:xfrm>
            <a:off x="4390920" y="2004840"/>
            <a:ext cx="4523040" cy="4053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trzy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761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rzez 8 mnoży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7 = 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6 jednoś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6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5 dziesiątek 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przez 8 mnożymy dziesiątki: 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2 = 1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amiętamy o 5 dziesiątkach, które powstały z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 + 5 = 21,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21 to 2 setki i 1 dziesiątka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dziesiątek zapisujemy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dopisujemy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 rzędu setek. 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teraz mnoży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przez setk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: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1 = 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pamiętamy o 2 setkach, które powst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dziesiątek 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+ 2 = 1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se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w rzędzie tysięc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onieważ w rzędzie tysięcy nie ma żadnych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stąd mamy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6"/>
          <p:cNvSpPr/>
          <p:nvPr/>
        </p:nvSpPr>
        <p:spPr>
          <a:xfrm>
            <a:off x="6844320" y="2227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ole tekstowe 7"/>
          <p:cNvSpPr/>
          <p:nvPr/>
        </p:nvSpPr>
        <p:spPr>
          <a:xfrm>
            <a:off x="7225200" y="242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1" name="Grupa 24"/>
          <p:cNvGrpSpPr/>
          <p:nvPr/>
        </p:nvGrpSpPr>
        <p:grpSpPr>
          <a:xfrm>
            <a:off x="6678720" y="2373480"/>
            <a:ext cx="1144440" cy="398880"/>
            <a:chOff x="6678720" y="2373480"/>
            <a:chExt cx="1144440" cy="398880"/>
          </a:xfrm>
        </p:grpSpPr>
        <p:sp>
          <p:nvSpPr>
            <p:cNvPr id="282" name="Łącznik prostoliniowy 9"/>
            <p:cNvSpPr/>
            <p:nvPr/>
          </p:nvSpPr>
          <p:spPr>
            <a:xfrm>
              <a:off x="6742800" y="272628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3" name="pole tekstowe 11"/>
            <p:cNvSpPr/>
            <p:nvPr/>
          </p:nvSpPr>
          <p:spPr>
            <a:xfrm>
              <a:off x="6678720" y="2373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4" name="Grupa 25"/>
          <p:cNvGrpSpPr/>
          <p:nvPr/>
        </p:nvGrpSpPr>
        <p:grpSpPr>
          <a:xfrm>
            <a:off x="6678720" y="3071880"/>
            <a:ext cx="1144440" cy="588600"/>
            <a:chOff x="6678720" y="3071880"/>
            <a:chExt cx="1144440" cy="588600"/>
          </a:xfrm>
        </p:grpSpPr>
        <p:sp>
          <p:nvSpPr>
            <p:cNvPr id="285" name="pole tekstowe 12"/>
            <p:cNvSpPr/>
            <p:nvPr/>
          </p:nvSpPr>
          <p:spPr>
            <a:xfrm>
              <a:off x="6844680" y="307188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pole tekstowe 13"/>
            <p:cNvSpPr/>
            <p:nvPr/>
          </p:nvSpPr>
          <p:spPr>
            <a:xfrm>
              <a:off x="7225920" y="329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Łącznik prostoliniowy 14"/>
            <p:cNvSpPr/>
            <p:nvPr/>
          </p:nvSpPr>
          <p:spPr>
            <a:xfrm>
              <a:off x="6742800" y="358920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8" name="pole tekstowe 15"/>
            <p:cNvSpPr/>
            <p:nvPr/>
          </p:nvSpPr>
          <p:spPr>
            <a:xfrm>
              <a:off x="6678720" y="323712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9" name="pole tekstowe 16"/>
          <p:cNvSpPr/>
          <p:nvPr/>
        </p:nvSpPr>
        <p:spPr>
          <a:xfrm>
            <a:off x="7219080" y="35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3"/>
          <p:cNvSpPr/>
          <p:nvPr/>
        </p:nvSpPr>
        <p:spPr>
          <a:xfrm>
            <a:off x="681264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26"/>
          <p:cNvSpPr/>
          <p:nvPr/>
        </p:nvSpPr>
        <p:spPr>
          <a:xfrm>
            <a:off x="70189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upa 3"/>
          <p:cNvGrpSpPr/>
          <p:nvPr/>
        </p:nvGrpSpPr>
        <p:grpSpPr>
          <a:xfrm>
            <a:off x="6516720" y="4103640"/>
            <a:ext cx="1303200" cy="1016280"/>
            <a:chOff x="6516720" y="4103640"/>
            <a:chExt cx="1303200" cy="1016280"/>
          </a:xfrm>
        </p:grpSpPr>
        <p:grpSp>
          <p:nvGrpSpPr>
            <p:cNvPr id="293" name="Grupa 22"/>
            <p:cNvGrpSpPr/>
            <p:nvPr/>
          </p:nvGrpSpPr>
          <p:grpSpPr>
            <a:xfrm>
              <a:off x="6516720" y="4338000"/>
              <a:ext cx="1303200" cy="781920"/>
              <a:chOff x="6516720" y="4338000"/>
              <a:chExt cx="1303200" cy="781920"/>
            </a:xfrm>
          </p:grpSpPr>
          <p:sp>
            <p:nvSpPr>
              <p:cNvPr id="294" name="pole tekstowe 17"/>
              <p:cNvSpPr/>
              <p:nvPr/>
            </p:nvSpPr>
            <p:spPr>
              <a:xfrm>
                <a:off x="6799680" y="4338000"/>
                <a:ext cx="7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1 2 7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5" name="pole tekstowe 18"/>
              <p:cNvSpPr/>
              <p:nvPr/>
            </p:nvSpPr>
            <p:spPr>
              <a:xfrm>
                <a:off x="7193160" y="4525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6" name="Łącznik prostoliniowy 19"/>
              <p:cNvSpPr/>
              <p:nvPr/>
            </p:nvSpPr>
            <p:spPr>
              <a:xfrm>
                <a:off x="6516720" y="4822920"/>
                <a:ext cx="130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7" name="pole tekstowe 20"/>
              <p:cNvSpPr/>
              <p:nvPr/>
            </p:nvSpPr>
            <p:spPr>
              <a:xfrm>
                <a:off x="6678720" y="446976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8" name="pole tekstowe 21"/>
              <p:cNvSpPr/>
              <p:nvPr/>
            </p:nvSpPr>
            <p:spPr>
              <a:xfrm>
                <a:off x="7211520" y="475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99" name="pole tekstowe 27"/>
            <p:cNvSpPr/>
            <p:nvPr/>
          </p:nvSpPr>
          <p:spPr>
            <a:xfrm>
              <a:off x="6998040" y="4103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0" name="pole tekstowe 28"/>
          <p:cNvSpPr/>
          <p:nvPr/>
        </p:nvSpPr>
        <p:spPr>
          <a:xfrm>
            <a:off x="6793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ole tekstowe 29"/>
          <p:cNvSpPr/>
          <p:nvPr/>
        </p:nvSpPr>
        <p:spPr>
          <a:xfrm>
            <a:off x="700956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ole tekstowe 30"/>
          <p:cNvSpPr/>
          <p:nvPr/>
        </p:nvSpPr>
        <p:spPr>
          <a:xfrm>
            <a:off x="6577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ole tekstowe 31"/>
          <p:cNvSpPr/>
          <p:nvPr/>
        </p:nvSpPr>
        <p:spPr>
          <a:xfrm>
            <a:off x="6577560" y="474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6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32 · 6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53 · 8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7:24Z</dcterms:modified>
  <cp:revision>28</cp:revision>
  <dc:subject/>
  <dc:title>Prezentacja programu PowerPoint</dc:title>
</cp:coreProperties>
</file>